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95-8C54-4F27-9D2D-F1B55835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2E1-8A41-40A4-BC36-0FB9336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543-9B8D-4965-9D5B-DD13811E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744-0452-423D-B679-2C87F744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9F8-1CAE-4BDB-9D06-977D7F08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119-5DEA-47DE-AC0C-C1AFC0D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E95-1984-4A34-84B1-C956C1F6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F35-5D07-4324-800E-5D654A5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EB0-9C2E-44DD-89EB-942EDCA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19E-7EE1-4E79-A8E1-A5302AB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02B-7C1D-43ED-8D58-02D9297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3F4-6E26-49EE-9E47-BD46D79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5DF9-6382-41F0-9359-1C7B02C7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allpaperswide.com/thumbs/capybara_venezuela-t2.jpg&amp;imgrefurl=http://wallpaperswide.com/capybara_venezuela-wallpapers.html&amp;usg=__Kv-GQw0gRHhMqBN5vAKzzXJZsj8=&amp;h=350&amp;w=510&amp;sz=79&amp;hl=en&amp;start=18&amp;sig2=sdiSO5wm6cu6JK9YmfJvLw&amp;zoom=1&amp;tbnid=939-0B_eRoDR8M:&amp;tbnh=90&amp;tbnw=131&amp;ei=ckbdTt6bEcXb0QHlzNmrCQ&amp;prev=/search%3Fq%3Dcool%2Banimals%2Bin%2Bvenezuela%26um%3D1%26hl%3Den%26sa%3DN%26rlz%3D1T4ADSA_enUS394US394%26tbm%3Disch&amp;um=1&amp;itb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com/imgres?imgurl=http://media.nowpublic.net/images//ef/f/effc749bc0bf4018474f4515b5a28749.jpg&amp;imgrefurl=http://www.nowpublic.com/strange/green-python&amp;usg=__gMdLv70W81CS-2fNBI_sWrMrkEg=&amp;h=476&amp;w=635&amp;sz=71&amp;hl=en&amp;start=57&amp;sig2=iIaDszcaMmzHesLJRxueUQ&amp;zoom=1&amp;tbnid=BbLmHJJ1xlC2iM:&amp;tbnh=103&amp;tbnw=137&amp;ei=tkbdTsSvBcXx0gH52ID9DQ&amp;prev=/search%3Fq%3Dcool%2Banimals%2Bin%2Bvenezuela%26start%3D42%26um%3D1%26hl%3Den%26sa%3DN%26rlz%3D1T4ADSA_enUS394US394%26tbm%3Disch&amp;um=1&amp;itbs=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google.com/imgres?imgurl=http://biomeh.wikispaces.com/file/view/Dendrobates_yellow_3.jpg/33102251/Dendrobates_yellow_3.jpg&amp;imgrefurl=http://biomeh.wikispaces.com/Animals&amp;usg=__aiT85HH7qVuGbLxUJo6SBwWph5k=&amp;h=434&amp;w=600&amp;sz=226&amp;hl=en&amp;start=58&amp;sig2=9vLkchOfh7JWjEZx1YAOeA&amp;zoom=1&amp;tbnid=j6QDv9z3CRNY_M:&amp;tbnh=98&amp;tbnw=135&amp;ei=tkbdTsSvBcXx0gH52ID9DQ&amp;prev=/search%3Fq%3Dcool%2Banimals%2Bin%2Bvenezuela%26start%3D42%26um%3D1%26hl%3Den%26sa%3DN%26rlz%3D1T4ADSA_enUS394US394%26tbm%3Disch&amp;um=1&amp;itbs=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google.com/imgres?imgurl=http://images.travelpod.com/users/prieststrip/1.1270678680.iguana.jpg&amp;imgrefurl=http://blog.travelpod.com/travel-blog-entries/prieststrip/1/1270678680/tpod.html&amp;usg=__iQSvRg00Z5YBBwCzzZMm6mrGsWQ=&amp;h=367&amp;w=550&amp;sz=134&amp;hl=en&amp;start=46&amp;sig2=JpBIlQhMinTS5qlNVqP-vg&amp;zoom=1&amp;tbnid=VeURbiyEU8M6zM:&amp;tbnh=89&amp;tbnw=133&amp;ei=tkbdTsSvBcXx0gH52ID9DQ&amp;prev=/search%3Fq%3Dcool%2Banimals%2Bin%2Bvenezuela%26start%3D42%26um%3D1%26hl%3Den%26sa%3DN%26rlz%3D1T4ADSA_enUS394US394%26tbm%3Disch&amp;um=1&amp;itbs=1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Franklin Gothic Heavy"/>
              </a:rPr>
              <a:t>Venezue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: Owen Bea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Overhead of Yuruani Falls, Yuruani River."/>
          <p:cNvPicPr/>
          <p:nvPr/>
        </p:nvPicPr>
        <p:blipFill>
          <a:blip r:embed="rId1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Portrait of an Ocelot (Felis pardalis) at the Hato El Frio, a large cattle ranch in Los Llanos (The Plains)."/>
          <p:cNvPicPr/>
          <p:nvPr/>
        </p:nvPicPr>
        <p:blipFill>
          <a:blip r:embed="rId2"/>
          <a:stretch/>
        </p:blipFill>
        <p:spPr>
          <a:xfrm>
            <a:off x="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Brightly-painted boats on Playa Manzanillo.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33526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</a:rPr>
              <a:t>Venez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553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y : owen b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22860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4880" y="8015400"/>
            <a:ext cx="7391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360" y="14842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5238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447920"/>
            <a:ext cx="8305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Querido m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yo juegé en mi hotel. Es el hotel de Caracas. Es muy grande y mucho fantastico. </a:t>
            </a:r>
            <a:r>
              <a:rPr b="0" lang="es-ES" sz="2400" spc="-1" strike="noStrike">
                <a:solidFill>
                  <a:srgbClr val="000000"/>
                </a:solidFill>
                <a:latin typeface="Franklin Gothic Heavy"/>
              </a:rPr>
              <a:t>El servicio es muy agradable, y todos los trabajadores son amigables. Que está cerca del club de campo.el alberca es muy grande y el agua es muy clara.Mi dormitoio es no pequeño es el grande y muy luj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anklin Gothic Heavy"/>
              </a:rPr>
              <a:t>Amor , 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3429000" cy="179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1522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99cc00"/>
                </a:solidFill>
                <a:uFillTx/>
                <a:latin typeface="Arial"/>
              </a:rPr>
              <a:t>Lu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35268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049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Ma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676520"/>
            <a:ext cx="487692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o Elizabe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yo fei en una piscina. Es muy bien cuidado. Hay un mo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de gente.fue muy divertid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ego me fui al gimnasio. Había mucho equipo y me fui en la cinta. Tuve un primer día muy dive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ramente,  Ow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0000ff"/>
                </a:solidFill>
                <a:uFillTx/>
                <a:latin typeface="Arial"/>
              </a:rPr>
              <a:t>Miérc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828800"/>
            <a:ext cx="76201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ido Pap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y yo fui a la capital de Venezuela. La capital es Caracas. Porque tuve hamb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í que fui a la tienda de pizza. La pizza fue muy bien. Había una gran cantidad de diferentes tipos de tienda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o yo no tenía tiempo suficiente para ir a todos ellos. Fui a algunas de ellas, aun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ramente,  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10080" y="4722840"/>
            <a:ext cx="3733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0099"/>
                </a:solidFill>
                <a:uFillTx/>
                <a:latin typeface="Arial"/>
              </a:rPr>
              <a:t>Jueves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o J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casi mi últimodía en Venezuela. Me decidí a ir al centro comercial. Fue al Foot Locker. Y me compré un par de zapatos. El centro comercial fue también muy concurrida y es difícil de encontrar la tienda. Pero terminé encontrando. Continuación, después de treinta minutos en el estacionamiento Sa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ramente,  Su primo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53080" y="2590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9900"/>
                </a:solidFill>
                <a:uFillTx/>
                <a:latin typeface="Arial"/>
              </a:rPr>
              <a:t>Vier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Querido Abu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Hoy es viernes, y también mi último día en Venezuela. A última cosa que yo no había hecho más que ir a la playa. Mientras yo estaba en la playa sólo había una persona que no. Que era la playa más hermosa que yo había estado nunca en. También fue 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gran día fuera. mis va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en Venezuela fue increí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Amor,    Ow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65768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4648320"/>
            <a:ext cx="266724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6483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200400"/>
            <a:ext cx="2057400" cy="12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705720" y="3276720"/>
            <a:ext cx="2438280" cy="119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124080" y="3200400"/>
            <a:ext cx="2667240" cy="135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1447920"/>
            <a:ext cx="876312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WWW.Lonely 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WWW.Google Imag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9:02Z</dcterms:created>
  <dc:creator>bearerowe</dc:creator>
  <dc:description/>
  <dc:language>en-US</dc:language>
  <cp:lastModifiedBy>Michelle</cp:lastModifiedBy>
  <dcterms:modified xsi:type="dcterms:W3CDTF">2011-12-05T23:07:58Z</dcterms:modified>
  <cp:revision>8</cp:revision>
  <dc:subject/>
  <dc:title>Venezuela</dc:title>
</cp:coreProperties>
</file>